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168-D3DE-476F-8918-FAC7CE08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E73-B746-4E72-861D-78F8738182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84F8-ADB6-4A17-B23C-1008AE7296F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1F7-2E20-4FB5-B442-DF14356F5E3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041-95C2-4C7F-9E1B-BEC33572C30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F33-F1A5-423E-9D56-D7751796A4D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619-9A8D-4799-88AD-28319F9A782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65AF-3606-4233-9D76-2B1607A60F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BDA-8964-4300-8124-00734FE9E98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1EA-2AA7-410E-A6E1-29DA1801C0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D47-91D2-47FF-A874-8AC4F8D522E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53D-DCF2-4E7E-BF8A-3CBCDA0DC39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A3BF-41BC-4F6E-9073-9BD27A5C0B4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AF16-B6E5-4B85-AC26-45E7DEFBF15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B5D7-3B3C-44A8-860E-6C38F9B1CB2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EAEB-C483-421E-BFB3-4BBF42A02F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5286-2CD0-4FE9-B0C3-D88752154E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0577-72FD-42A0-B0B1-5D5733C5680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FF2-E97A-43FF-B31B-73B4BBF558A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BD3-A11F-42E8-9B63-C707662917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36D7-6B2F-45B7-A43D-C427C00F7A1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7501-73DB-4FD8-AC81-FAB80DBB3EA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2676-AA89-4D91-99C0-210AC1E608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278-7438-41F3-AF20-38699757960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C1BB-2DA5-4264-8688-F1A677DBAA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4942-18A2-4C3F-8D62-AA62315D37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9DC-3FE2-4C81-983A-A37E695FA0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014-9B73-4061-B837-2BC30BFA89E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A4C-51E4-4955-BEA1-3AE0B3BF038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195-22D6-4485-A62A-D818664AC9E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DFFB-A2C9-496C-B127-52F79753858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5376-FF91-4EF1-BD24-9A189B2CEC2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DE34-DCB1-4600-B9A0-C943804E9D9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A23-CC40-4F48-88D7-2ACB3C92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FFB-59CC-4D8B-8C23-CA8BE434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E74-97C8-46F8-8F31-3D2CA5F6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EFB-855C-4319-A24E-C5045C95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8C1-3B5B-4CA8-A513-1073DC2F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D76-70E6-4FF2-814E-E2EDB92A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8B5-E887-4115-9DBA-C2CAB70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50B-C4B9-44BF-AA7A-FD6DEAB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391-264A-4594-8B98-EAF15D4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AAD-3C25-429E-B02F-F2385CA2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43A-48AE-4964-A1D0-8FE06FC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5F3-6CDF-4555-8FB9-B19E3EA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5BA-5353-4748-978C-7F5735E142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4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washor@uri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ricejobfair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lickwilly@yah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49200" y="2514600"/>
            <a:ext cx="7056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        ……</a:t>
            </a: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with a Teacher Focu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URI Career Service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olyn Thomas, M.A.T., M.Ed.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0666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Resume/Cover Letter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371600" y="25146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a Teacher Foc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262728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o clearly st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osition you s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/agency/industry you want to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kills you bring to the j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* best used at job fai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obtain a position as an elementary teacher at a private school, using my knowledge of psychology and ability to motivate stude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 …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Objectiv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optiona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9880" y="839880"/>
            <a:ext cx="5788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…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Rhode Island, Kingston, 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helor of Science in Secondary Edu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helor of Arts in Engli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A in Education:  3.4/4.0; Dean’s L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: RI 7-12 with ESL Endors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udent Exchang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nt John’s University, Sydney, 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llege of Rhode Island, Warwick, RI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ociate of Arts in Liberal A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not to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school related information*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s and personal information*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e of birth/ethni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s of supervisors or mana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ephone numbers of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The exception: unless it is directly related to the obj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8160" y="834480"/>
            <a:ext cx="639972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…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peri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“you” are the subject of the resume.  Therefore, never use “I” or “My”.  There are no complete sentences on res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llets or paragraphs are comprised of action verbs and fragment sentenc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work experience combined in one/Separated into Related vs.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0000" y="96228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erience Descri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14400" y="2362320"/>
            <a:ext cx="76201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3366"/>
                </a:solidFill>
                <a:latin typeface="Tahoma"/>
              </a:rPr>
              <a:t>5 Elements: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ob Tit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ompany or Organiz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ity, St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Dat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Responsibilities of posi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Present tense if current position /past tense if past job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Emphasize: 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Quantitative amounts (numerical) and qualitative (descriptive) data.  New ideas or positive implementation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1351080" y="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029"/>
          <p:cNvSpPr/>
          <p:nvPr/>
        </p:nvSpPr>
        <p:spPr>
          <a:xfrm>
            <a:off x="0" y="2133720"/>
            <a:ext cx="461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XPERIENCE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66"/>
                </a:solidFill>
                <a:latin typeface="Tahoma"/>
              </a:rPr>
              <a:t>Peabody Camp, Peabody, MA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     Summer 20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Nature Instructor/Supervis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3366"/>
                </a:solidFill>
                <a:latin typeface="Tahoma"/>
              </a:rPr>
              <a:t>Coordinated daily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nature 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activities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for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 250 campers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3366"/>
                </a:solidFill>
                <a:latin typeface="Tahoma"/>
              </a:rPr>
              <a:t>scheduled and supervised 17 camp couns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lors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as thei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groups participated in the programs.  Ordered al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supplies and gathered demonstration materials.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Planned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monthly programs around environmental theme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eashore Pub, Wayne, NJ </a:t>
            </a:r>
            <a:r>
              <a:rPr b="0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     Summer 200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Waitr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Utilized communication and interpersonal skills 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assist customers.  Multi-tasked in fast pac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environment handling up to 12 tables.  Work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as member of three person team to expedi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oodservic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030"/>
          <p:cNvSpPr/>
          <p:nvPr/>
        </p:nvSpPr>
        <p:spPr>
          <a:xfrm>
            <a:off x="480060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3366"/>
                </a:solidFill>
                <a:latin typeface="Tahoma"/>
              </a:rPr>
              <a:t>Counseling Experienc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ACE Car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Dol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, MA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           2005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Present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sz="1700" spc="-1" strike="noStrike">
                <a:solidFill>
                  <a:srgbClr val="003366"/>
                </a:solidFill>
                <a:latin typeface="Tahoma"/>
              </a:rPr>
              <a:t>Rehabilitation Counselor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Assist  caseload of 23 clients with personal, social, 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b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ehavioral, and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vocational issue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Foster independant thinking skills within client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and set goal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Utilize assessment tools such as SIGI  in the evaluation proces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Confer with clients, families and physcians to implement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r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habilitation program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031"/>
          <p:cNvSpPr/>
          <p:nvPr/>
        </p:nvSpPr>
        <p:spPr>
          <a:xfrm>
            <a:off x="304920" y="1523880"/>
            <a:ext cx="3886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erse Chronological / Paragrap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4952880" y="1523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ilored /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lleted Sty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033"/>
          <p:cNvSpPr/>
          <p:nvPr/>
        </p:nvSpPr>
        <p:spPr>
          <a:xfrm>
            <a:off x="304920" y="457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yles of Resum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066680" y="2590920"/>
            <a:ext cx="70106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unteer Activ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rofessional Member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onors and Awards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i.e. Kappa Delta 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eadership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puter/Language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ted Ac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48680" y="972360"/>
            <a:ext cx="62085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sz="3000" spc="-1" strike="noStrike">
                <a:solidFill>
                  <a:srgbClr val="006666"/>
                </a:solidFill>
                <a:latin typeface="Arial"/>
              </a:rPr>
              <a:t>Computer /Language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sz="3000" spc="-1" strike="noStrike">
                <a:solidFill>
                  <a:srgbClr val="006666"/>
                </a:solidFill>
                <a:latin typeface="Arial"/>
              </a:rPr>
              <a:t>Skills</a:t>
            </a:r>
            <a:br>
              <a:rPr sz="3000"/>
            </a:b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Proficient 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, 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Excel, Pow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oint, use of Inter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t and E-mail.  Working knowledge of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S 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Acces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ntPage, and Adobe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Pagemak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Flu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.  Written understanding of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alian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and Portugue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ce Saving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font but not smaller than 10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al 10 point looks bigger tha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mes New Roman 1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i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is still space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lank space on a resume is the same size as your font. Highlight and reduce the blank space to an 8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File Page Set up reduce the standard margins (1 and 1.25) to an overall size of .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3366"/>
                </a:solidFill>
                <a:latin typeface="Arial"/>
              </a:rPr>
              <a:t>Top 7 Skills Employers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Look</a:t>
            </a:r>
            <a:r>
              <a:rPr b="0" sz="3000" spc="-1" strike="noStrike">
                <a:solidFill>
                  <a:srgbClr val="003366"/>
                </a:solidFill>
                <a:latin typeface="Arial"/>
              </a:rPr>
              <a:t> For in Job Candidates</a:t>
            </a:r>
            <a:br>
              <a:rPr sz="1600"/>
            </a:b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1.  Interpersonal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2.  Team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3.  Verbal Commun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sz="2400" spc="-1" strike="noStrike">
                <a:solidFill>
                  <a:srgbClr val="003366"/>
                </a:solidFill>
                <a:latin typeface="Arial"/>
              </a:rPr>
              <a:t>ation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4.  Analyt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5.  Computer savv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6.  Written commun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7.  Leader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3366"/>
                </a:solidFill>
                <a:latin typeface="Times New Roman"/>
              </a:rPr>
              <a:t>* National Association of College and Employers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Spring</a:t>
            </a:r>
            <a:r>
              <a:rPr b="1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00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d you know? 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52280" y="3050640"/>
            <a:ext cx="7264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mployer initially takes about 10-20 seconds to review a resume and decide if it makes the first c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14680" y="9673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page with name at 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of three professional (mgr. /supervis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ware you are using them as a re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should have a copy of your resu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their contact informa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sa Ferns, 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itle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eer Advi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rganization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versity of Rhode Isl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28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gston, RI  022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elephon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1 874-511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-mai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ferences of  Lisa Fer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35 Roosevelt Hall, Kingston ,RI  02881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401) 874-5119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im Washor, Coordinato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ffice of Internships and Experiential Edu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niversity of Rhode Isla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oosevelt Hal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ingston, RI   0288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kwashor@uri.ed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401) 874-222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ichael Fairmount, Mana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uth Shore Restaur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35 Kings Hill R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ent, WA  0628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860) 456-2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96228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90720" y="2514600"/>
            <a:ext cx="73911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lways (whenever possible) addressed to a specific person with their correct title and contact information (See handou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Usually one page in length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void re-hashing information from you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s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ailored to each job and error f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590920"/>
            <a:ext cx="739152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w the reader that this letter specifically for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y using co. name and proof of resear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monstrate that your skills are a direct match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ob description by using concrete examples of yo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ank them for their time and conside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14680" y="11192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Opening Paragraph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590920"/>
            <a:ext cx="7696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pecifically state purpose of letter 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osition seeking (See handou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ention company name and why yo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ant to work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y something positive about yourself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(Capture the atten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f Networking, mention 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200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The Bo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4495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econdary English Educ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Seeking a certified teacher for full time position teaching English grades 9-12 in inner city sett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6666"/>
                </a:solidFill>
                <a:latin typeface="Arial"/>
              </a:rPr>
              <a:t>Must have bachelors degree, be RI certified, able to teach  grammar, creative writing, the classics, and theatre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ec0"/>
                </a:solidFill>
                <a:latin typeface="Arial"/>
              </a:rPr>
              <a:t>Strong classroom management skills,  excellent  communication skills and ability to address diverse learner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s a student teacher within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rovidence school district, I had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pportunity to work with a divers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tudent population.  Additionally, I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volunteered my time within the LAS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rganization assisting Latino stu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ursuing scholarship opportunities.  </a:t>
            </a: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created original lesson plans addr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visual and kinesthetic learners  with 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Shakespearian theme.  This allowed me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utilize my creativity in producing 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classroom play regarding Romeo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Juliet.   </a:t>
            </a: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Throughout all my position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in education, I have managed th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classroom through positive reinforce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and modeled appropriate behaviors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I hav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eld parent-teacher conferences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llaborated with staff and co-workers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ided students through the colleg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lication proces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The Clo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ro-active/re-a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ate that you are a solid ma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ion school name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ary ranges in 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RI Association of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te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Salary Rang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7-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Range withi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 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$34,321 to $43,0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entral Fal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$59,989 to $70,0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have added steps 10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$74,90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for Longevity, Education, National Bd. Cer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ary: Nationwide compari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2008 AAEE Job Search Handb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 Average 2004-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$33,8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$56,4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$24,872 (ND)     $34,038(S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$39,259 (CT)     $57,760(C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igh paying states: IL, CA, MA, MI, NY, AK, PA, 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a Teaching Position Without Mo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 in a Specific Are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2006 AAEE Job Search Handbook for Teach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survey of Western PA school administrators, an area where teaching market is competitive in many certification are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p Suggestions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ubstitute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Adding another Certification/Lic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erving as a Paraprofess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Become a computer/technology exp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Volunteer in the Sch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838080" y="2590920"/>
            <a:ext cx="7925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You should have a PERFECT resum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good resume will get you the job you wan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aving your information on Facebook, friendster or my space will not effect your job search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t URI dates for Spring 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761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Career and Job Fair 200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am-3pm; URI Ryan Ce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dges, Inc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ild and Family Services of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Newport County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mmunities For People, Inc.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ckerd Youth Alternatives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Gateway Healthcare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th Bay Mental Health Center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evens Treatment Program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Groden Networ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Providence Cente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5638680" y="41148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More information available by logging into RhodyNet and looking under Career Events men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.I.C.E. Education Career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ursday, April 17th,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rowne Plaza in Warwick, 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~65 districts attending (nationw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ricejobfair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workshops on Mon, April 7 and Thur  April 10,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???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RI Career Servi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28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1 874-23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eer@etal.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racteristics of 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Good Resum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ll organized profiles of your qualif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education, experience, and responsibilities as well as skills, abilities, and accomplish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at, organized,  and has flawless grammar, spelling, format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s in a concise, effective man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ilored to the 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Fo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94920" y="25146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mes New Ro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Fax"/>
              </a:rPr>
              <a:t>Luc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Cour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Verd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10552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int size: 10 m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rules for a resu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the tr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ise and to the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rases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one page for new gr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yout of a resu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der of importance is left to right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 according to import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clear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poin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easy to 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838080" y="8380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ahoma"/>
              </a:rPr>
              <a:t>Parts of a resume…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he Heade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62120" y="25146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rgest item on the page (14-16 point siz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old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,  ALL CAPS,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MALL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A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dress (permanent vs. schoo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elephone number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include area co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ell phone ###?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-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atch E-mail address (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  <a:hlinkClick r:id="rId1"/>
              </a:rPr>
              <a:t>slickwilly@yahoo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.com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nly use on resume it if you check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7848720" y="2209680"/>
            <a:ext cx="4114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838080" y="2438280"/>
            <a:ext cx="7086600" cy="26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isa Fer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oom 235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gston, RI 028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01) 874-511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5105520"/>
            <a:ext cx="84582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isa Fer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om 235, Roosevelt Hall, Kingston, RI 02881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lpuddico@uri.edu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(401) 874-511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057400" y="9907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Head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8:21Z</dcterms:created>
  <dc:creator>Lisa Ferns</dc:creator>
  <dc:description/>
  <dc:language>en-US</dc:language>
  <cp:lastModifiedBy>Carolyn Thomas</cp:lastModifiedBy>
  <dcterms:modified xsi:type="dcterms:W3CDTF">2008-03-25T19:14:22Z</dcterms:modified>
  <cp:revision>57</cp:revision>
  <dc:subject/>
  <dc:title>PowerPoint Presentation</dc:title>
</cp:coreProperties>
</file>